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5622480" y="0"/>
            <a:ext cx="43038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3435120" y="849240"/>
            <a:ext cx="305748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8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9"/>
          </p:nvPr>
        </p:nvSpPr>
        <p:spPr>
          <a:xfrm>
            <a:off x="562248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9053-B66E-4797-9AFA-BA0105F188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313-A658-4424-9C55-AAFB6A2F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们在计算漏损率时需要统计一些基础数据，首先就是供水总量。。。如果有补压井向管网直接供水的这部分水量也要统计在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计费用水量（售水量），按大类分为计费计量和计费未计量两部分，细分为居民、非居民、特行等计费计量水量，新建、改建管线冲洗、应急水车、工程漏等计费未计量水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9B8E-0802-4F06-B9FC-5E401EA70C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免费计量用水量可能包含自用水、按规定减免收费的水（低保户等）、部分地区也会有用于防护防冻等措施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免费未计量用水主要是消防、新建和改建管线冲洗、管网维护冲洗（水质放水、计划停水、抢修关闸、零压测试等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5B21-70D2-4CD5-A7CC-BCF18B37EE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在统计完上述的供水总量和注册用户用水量之后，就可以计算出管网的综合漏损率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41FC-9A3E-47E9-8655-76251DC421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6BE-BAE1-4642-80E8-D8F68A493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498D-0FEE-4735-BA0F-651BABC06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908C-1F38-4CE5-A27C-15D19814D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重力流出厂压力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不修正，原因：重力流管道压力是根据高差来计算的，出厂压力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EBB0-4C5F-46BC-9958-7F2EA1B4D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622840" y="6456240"/>
            <a:ext cx="4303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BE9-CF4A-4F66-BE5D-7B567789C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435480" y="849240"/>
            <a:ext cx="3057480" cy="2293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376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CD3-C82F-48BE-8A84-83E4199D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674-9C7F-4998-AC88-0D9394D2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F96-FBD9-4429-A7E6-53E86C0E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74F-0C0B-4A1E-87FB-55919F78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087-F575-4A87-BCF8-41B93D93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89A-A88A-4F4A-945E-88A0BB33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105-634E-4D44-BE2B-46965C9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6B2-FA5F-416B-AB04-B2DC3C9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386-996C-4507-BB10-5F8BB1F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816-AE90-4DC6-B808-544D03DD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DD8-A081-42AD-955B-C7808A9F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378-5F1A-4C4B-AAA0-4D59A773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B7DB-2163-4788-A7DA-67C48CF7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2ECB-82A3-41BA-8B78-ADC6DF5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1B51-B815-407C-8C15-9A2A3CD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B078-46C3-461A-9090-775B893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6A27-EDF1-4D57-974A-C5DF5AB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1412-1187-4E32-9A7C-293DA4F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972D-965E-4A1B-9CE4-EFF4A363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EBB6-E4AD-4DA7-8A84-FC19DF83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88F8-3FCD-4183-BF00-285676EF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7ACC-D35D-49A3-BAE0-B7B1DC09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2360-D985-4880-8C6E-D6A5385D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886A-1654-443F-BE37-063E25A7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2"/>
          <a:stretch/>
        </p:blipFill>
        <p:spPr>
          <a:xfrm>
            <a:off x="7981920" y="114480"/>
            <a:ext cx="75420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7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5" descr=""/>
          <p:cNvPicPr/>
          <p:nvPr/>
        </p:nvPicPr>
        <p:blipFill>
          <a:blip r:embed="rId2"/>
          <a:stretch/>
        </p:blipFill>
        <p:spPr>
          <a:xfrm>
            <a:off x="7981920" y="114480"/>
            <a:ext cx="7542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7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"/>
          <p:cNvPicPr/>
          <p:nvPr/>
        </p:nvPicPr>
        <p:blipFill>
          <a:blip r:embed="rId3"/>
          <a:stretch/>
        </p:blipFill>
        <p:spPr>
          <a:xfrm>
            <a:off x="7981920" y="114480"/>
            <a:ext cx="754200" cy="76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E86B-5D77-4BF8-9930-AD84893B53DD}" type="datetime">
              <a:rPr b="0" lang="zh-CN" sz="2400" spc="-1" strike="noStrike">
                <a:solidFill>
                  <a:srgbClr val="898989"/>
                </a:solidFill>
                <a:latin typeface="Times New Roman"/>
                <a:ea typeface="黑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32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2268-3760-46E7-A936-655126B84553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7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7981920" y="114480"/>
            <a:ext cx="754200" cy="765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5b9bd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直接连接符 4" descr=""/>
          <p:cNvPicPr/>
          <p:nvPr/>
        </p:nvPicPr>
        <p:blipFill>
          <a:blip r:embed="rId3"/>
          <a:stretch/>
        </p:blipFill>
        <p:spPr>
          <a:xfrm>
            <a:off x="-6480" y="-828720"/>
            <a:ext cx="9156960" cy="47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7981920" y="114480"/>
            <a:ext cx="754200" cy="76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0101-8754-4623-AA59-40225681EB45}" type="datetime">
              <a:rPr b="0" lang="zh-CN" sz="2400" spc="-1" strike="noStrike">
                <a:solidFill>
                  <a:srgbClr val="898989"/>
                </a:solidFill>
                <a:latin typeface="Times New Roman"/>
                <a:ea typeface="黑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68259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9AF5-67B3-457E-8BED-FFDC63086075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22280" y="4432320"/>
            <a:ext cx="8153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</a:rPr>
              <a:t>报告人：孔祥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6200" y="2249640"/>
            <a:ext cx="8785440" cy="1743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82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黑体"/>
                <a:ea typeface="黑体"/>
              </a:rPr>
              <a:t>中国城镇供水排水统计年鉴</a:t>
            </a:r>
            <a:r>
              <a:rPr b="1" lang="en-US" sz="46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4600" spc="-1" strike="noStrike">
                <a:solidFill>
                  <a:srgbClr val="ffff00"/>
                </a:solidFill>
                <a:latin typeface="黑体"/>
                <a:ea typeface="黑体"/>
              </a:rPr>
              <a:t>漏损率相关数据的统计说明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184200" y="5207040"/>
            <a:ext cx="316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市自来水集团有限责任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矩形 7" descr=""/>
          <p:cNvPicPr/>
          <p:nvPr/>
        </p:nvPicPr>
        <p:blipFill>
          <a:blip r:embed="rId1"/>
          <a:stretch/>
        </p:blipFill>
        <p:spPr>
          <a:xfrm>
            <a:off x="2846520" y="2584440"/>
            <a:ext cx="3450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7320" y="993600"/>
          <a:ext cx="8839080" cy="5615280"/>
        </p:xfrm>
        <a:graphic>
          <a:graphicData uri="http://schemas.openxmlformats.org/drawingml/2006/table">
            <a:tbl>
              <a:tblPr/>
              <a:tblGrid>
                <a:gridCol w="1819080"/>
                <a:gridCol w="2932200"/>
                <a:gridCol w="4087800"/>
              </a:tblGrid>
              <a:tr h="52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术语解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统计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986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供水总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指进入供水管网中的全部水量之和，包括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自产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供水量和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外购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供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自产供水量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外购供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88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注册用户用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供水单位登记注册的用户的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费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用水量和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免费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用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费用水量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免费用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952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计费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在供水单位登记注册的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费用户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的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费计量水量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费未计量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996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费计量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居民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抄表到户居民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抄表到户的居民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居民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特种行业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费未计量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新建管线和管网改造冲洗水量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应急供水车水量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工程漏水量等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TextBox 3"/>
          <p:cNvSpPr/>
          <p:nvPr/>
        </p:nvSpPr>
        <p:spPr>
          <a:xfrm>
            <a:off x="1454040" y="0"/>
            <a:ext cx="5931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分表一 基本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57320" y="993600"/>
          <a:ext cx="8839080" cy="5712120"/>
        </p:xfrm>
        <a:graphic>
          <a:graphicData uri="http://schemas.openxmlformats.org/drawingml/2006/table">
            <a:tbl>
              <a:tblPr/>
              <a:tblGrid>
                <a:gridCol w="2001600"/>
                <a:gridCol w="3017880"/>
                <a:gridCol w="381960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术语解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统计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免费用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指按规定减免收费的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注册用户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的用水量和用于管网维护和冲洗等的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免费计量用水量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免费未计量用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免费计量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按规定减免收费的注册用户的用水量（</a:t>
                      </a: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自用水；特困户减免；冬季防冻放水等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免费未计量用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消防用水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新建管线和管网改造冲洗水量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+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管网维护冲洗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消防用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根据消防部门月报表统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新建管线冲洗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根据孔口自由出流公式统计计算：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Q=μA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√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2gH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Q</a:t>
                      </a: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=Q*T</a:t>
                      </a:r>
                      <a:r>
                        <a:rPr b="1" lang="zh-CN" sz="1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Q—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冲洗流量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Q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—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冲洗水量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T—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冲洗时间（单位：小时）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μ—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流量系数，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6-0.6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—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孔口截面积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m²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H—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孔口压力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管网改造冲洗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管网维护冲洗水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3"/>
          <p:cNvSpPr/>
          <p:nvPr/>
        </p:nvSpPr>
        <p:spPr>
          <a:xfrm>
            <a:off x="1454040" y="0"/>
            <a:ext cx="5931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分表一 基本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57320" y="925560"/>
          <a:ext cx="8839080" cy="5427720"/>
        </p:xfrm>
        <a:graphic>
          <a:graphicData uri="http://schemas.openxmlformats.org/drawingml/2006/table">
            <a:tbl>
              <a:tblPr/>
              <a:tblGrid>
                <a:gridCol w="1833480"/>
                <a:gridCol w="3684600"/>
                <a:gridCol w="3321000"/>
              </a:tblGrid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术语解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统计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综合漏损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管网漏损水量与供水总量之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供水总量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-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注册用户用水量）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供水总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漏损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用于评定或考核供水单位或区域的漏损水平，由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综合漏损率修正而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综合漏损率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-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总修正值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Rn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689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总修正值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Rn</a:t>
                      </a:r>
                      <a:r>
                        <a:rPr b="1" lang="zh-CN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居民抄表到户水量的修正值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Rn=R1+R2+R3+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67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单位供水量管长的修正值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平均出厂压力的修正值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大冻土深度的修正值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R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3"/>
          <p:cNvSpPr/>
          <p:nvPr/>
        </p:nvSpPr>
        <p:spPr>
          <a:xfrm>
            <a:off x="1454040" y="0"/>
            <a:ext cx="5931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分表一 基本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修正值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566640" y="1441440"/>
            <a:ext cx="792180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楼门表和对应户表的计量水量总会存在一定的差值，是否抄表到户对漏损率有重要影响。在漏损率计算公式的基础上，推导了漏损率与居民抄表到户水量占供水总量的比例之间关系。如下式所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式中  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居民抄表到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量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修正值（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r ——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居民抄表到户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水量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供水总量比例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3350880" y="933480"/>
            <a:ext cx="2643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居民抄表到户水量的修正值</a:t>
            </a:r>
            <a:r>
              <a:rPr b="1" lang="en-US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R</a:t>
            </a:r>
            <a:r>
              <a:rPr b="1" lang="en-US" sz="2300" spc="-1" strike="noStrike" baseline="-25000">
                <a:solidFill>
                  <a:srgbClr val="7030a0"/>
                </a:solidFill>
                <a:latin typeface="微软雅黑"/>
                <a:ea typeface="微软雅黑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"/>
          <p:cNvGrpSpPr/>
          <p:nvPr/>
        </p:nvGrpSpPr>
        <p:grpSpPr>
          <a:xfrm>
            <a:off x="2959200" y="3654360"/>
            <a:ext cx="3457440" cy="716040"/>
            <a:chOff x="2959200" y="3654360"/>
            <a:chExt cx="3457440" cy="71604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rcRect l="42959" t="54525" r="44448" b="40289"/>
            <a:stretch/>
          </p:blipFill>
          <p:spPr>
            <a:xfrm>
              <a:off x="2959200" y="3654360"/>
              <a:ext cx="308772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1"/>
            <p:cNvSpPr/>
            <p:nvPr/>
          </p:nvSpPr>
          <p:spPr>
            <a:xfrm>
              <a:off x="2959200" y="3654360"/>
              <a:ext cx="3457440" cy="71604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修正值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39640" y="5391000"/>
            <a:ext cx="79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DN75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含）以上管道长度为地下部分供水管网长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当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R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值大于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%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时，应取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%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；当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R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值小于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-3%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时，应取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-3%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1"/>
          <p:cNvSpPr/>
          <p:nvPr/>
        </p:nvSpPr>
        <p:spPr>
          <a:xfrm>
            <a:off x="3531600" y="1057320"/>
            <a:ext cx="24681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单位供水量管长的修正值</a:t>
            </a:r>
            <a:r>
              <a:rPr b="1" lang="en-US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R</a:t>
            </a:r>
            <a:r>
              <a:rPr b="1" lang="en-US" sz="2300" spc="-1" strike="noStrike" baseline="-25000">
                <a:solidFill>
                  <a:srgbClr val="7030a0"/>
                </a:solidFill>
                <a:latin typeface="微软雅黑"/>
                <a:ea typeface="微软雅黑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604800" y="4834080"/>
            <a:ext cx="8271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式中：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——DN7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含）以上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道长度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供水总量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比值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m/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³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469800" y="1504800"/>
            <a:ext cx="793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《城市供水统计年鉴》中供水总量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7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含）以上管道长度、水表数、漏损水量四项数据均完整的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09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有效记录进行统计分析，采用多元回归方法，得到漏损水量与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7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含）以上管道长度和水表数的相关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4"/>
          <p:cNvGrpSpPr/>
          <p:nvPr/>
        </p:nvGrpSpPr>
        <p:grpSpPr>
          <a:xfrm>
            <a:off x="1176480" y="3174840"/>
            <a:ext cx="6675120" cy="1600200"/>
            <a:chOff x="1176480" y="3174840"/>
            <a:chExt cx="6675120" cy="1600200"/>
          </a:xfrm>
        </p:grpSpPr>
        <p:sp>
          <p:nvSpPr>
            <p:cNvPr id="155" name="矩形 18"/>
            <p:cNvSpPr/>
            <p:nvPr/>
          </p:nvSpPr>
          <p:spPr>
            <a:xfrm>
              <a:off x="1176480" y="3174840"/>
              <a:ext cx="6675120" cy="160020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合 13"/>
            <p:cNvGrpSpPr/>
            <p:nvPr/>
          </p:nvGrpSpPr>
          <p:grpSpPr>
            <a:xfrm>
              <a:off x="2073600" y="3301560"/>
              <a:ext cx="5611320" cy="1346400"/>
              <a:chOff x="2073600" y="3301560"/>
              <a:chExt cx="5611320" cy="1346400"/>
            </a:xfrm>
          </p:grpSpPr>
          <p:grpSp>
            <p:nvGrpSpPr>
              <p:cNvPr id="157" name="组合 10"/>
              <p:cNvGrpSpPr/>
              <p:nvPr/>
            </p:nvGrpSpPr>
            <p:grpSpPr>
              <a:xfrm>
                <a:off x="2073600" y="3301560"/>
                <a:ext cx="5611320" cy="543240"/>
                <a:chOff x="2073600" y="3301560"/>
                <a:chExt cx="5611320" cy="543240"/>
              </a:xfrm>
            </p:grpSpPr>
            <p:sp>
              <p:nvSpPr>
                <p:cNvPr id="158" name="矩形 11"/>
                <p:cNvSpPr/>
                <p:nvPr/>
              </p:nvSpPr>
              <p:spPr>
                <a:xfrm>
                  <a:off x="2073600" y="3339360"/>
                  <a:ext cx="182664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单位供水量管长修正公式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9" name="Picture 22" descr=""/>
                <p:cNvPicPr/>
                <p:nvPr/>
              </p:nvPicPr>
              <p:blipFill>
                <a:blip r:embed="rId1"/>
                <a:srcRect l="41677" t="51556" r="42225" b="44778"/>
                <a:stretch/>
              </p:blipFill>
              <p:spPr>
                <a:xfrm>
                  <a:off x="4297320" y="3301560"/>
                  <a:ext cx="3387600" cy="523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60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5234040" y="3820680"/>
                <a:ext cx="2104920" cy="82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修正值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814320" y="1727280"/>
            <a:ext cx="7848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样漏水条件下，管网整体漏水量与管网平均压力呈正相关关系。由于统计管网平均压力在操作上过于繁复，故用年平均出厂压力统计，对年平均出厂压力过高的适当予以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2"/>
          <p:cNvGrpSpPr/>
          <p:nvPr/>
        </p:nvGrpSpPr>
        <p:grpSpPr>
          <a:xfrm>
            <a:off x="852120" y="3551400"/>
            <a:ext cx="7872840" cy="1272960"/>
            <a:chOff x="852120" y="3551400"/>
            <a:chExt cx="7872840" cy="1272960"/>
          </a:xfrm>
        </p:grpSpPr>
        <p:sp>
          <p:nvSpPr>
            <p:cNvPr id="164" name="TextBox 3"/>
            <p:cNvSpPr/>
            <p:nvPr/>
          </p:nvSpPr>
          <p:spPr>
            <a:xfrm>
              <a:off x="1046160" y="3559320"/>
              <a:ext cx="6966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36"/>
            <p:cNvSpPr/>
            <p:nvPr/>
          </p:nvSpPr>
          <p:spPr>
            <a:xfrm>
              <a:off x="2711520" y="3571920"/>
              <a:ext cx="18601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含）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37"/>
            <p:cNvSpPr/>
            <p:nvPr/>
          </p:nvSpPr>
          <p:spPr>
            <a:xfrm>
              <a:off x="5007960" y="3551400"/>
              <a:ext cx="1373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含）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38"/>
            <p:cNvSpPr/>
            <p:nvPr/>
          </p:nvSpPr>
          <p:spPr>
            <a:xfrm>
              <a:off x="1753920" y="4297320"/>
              <a:ext cx="1444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R</a:t>
              </a:r>
              <a:r>
                <a:rPr b="1" lang="en-US" sz="2000" spc="-1" strike="noStrike" baseline="-25000">
                  <a:solidFill>
                    <a:srgbClr val="002060"/>
                  </a:solidFill>
                  <a:latin typeface="微软雅黑"/>
                  <a:ea typeface="微软雅黑"/>
                </a:rPr>
                <a:t>3</a:t>
              </a:r>
              <a:r>
                <a:rPr b="1" lang="en-US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=0.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14"/>
            <p:cNvSpPr/>
            <p:nvPr/>
          </p:nvSpPr>
          <p:spPr>
            <a:xfrm flipV="1">
              <a:off x="1360440" y="3976200"/>
              <a:ext cx="0" cy="73332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左右箭头 15"/>
            <p:cNvSpPr/>
            <p:nvPr/>
          </p:nvSpPr>
          <p:spPr>
            <a:xfrm>
              <a:off x="1360440" y="4151160"/>
              <a:ext cx="2230200" cy="252360"/>
            </a:xfrm>
            <a:prstGeom prst="leftRightArrow">
              <a:avLst>
                <a:gd name="adj1" fmla="val 50000"/>
                <a:gd name="adj2" fmla="val 49997"/>
              </a:avLst>
            </a:prstGeom>
            <a:solidFill>
              <a:srgbClr val="8faadc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45"/>
            <p:cNvSpPr/>
            <p:nvPr/>
          </p:nvSpPr>
          <p:spPr>
            <a:xfrm>
              <a:off x="4159080" y="4291200"/>
              <a:ext cx="1444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R</a:t>
              </a:r>
              <a:r>
                <a:rPr b="1" lang="en-US" sz="2000" spc="-1" strike="noStrike" baseline="-25000">
                  <a:solidFill>
                    <a:srgbClr val="002060"/>
                  </a:solidFill>
                  <a:latin typeface="微软雅黑"/>
                  <a:ea typeface="微软雅黑"/>
                </a:rPr>
                <a:t>3</a:t>
              </a:r>
              <a:r>
                <a:rPr b="1" lang="en-US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=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17"/>
            <p:cNvSpPr/>
            <p:nvPr/>
          </p:nvSpPr>
          <p:spPr>
            <a:xfrm flipV="1">
              <a:off x="3594240" y="3970080"/>
              <a:ext cx="0" cy="73476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8"/>
            <p:cNvSpPr/>
            <p:nvPr/>
          </p:nvSpPr>
          <p:spPr>
            <a:xfrm flipV="1">
              <a:off x="5824800" y="3970080"/>
              <a:ext cx="0" cy="73476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左右箭头 19"/>
            <p:cNvSpPr/>
            <p:nvPr/>
          </p:nvSpPr>
          <p:spPr>
            <a:xfrm>
              <a:off x="3594240" y="4145040"/>
              <a:ext cx="2230200" cy="250560"/>
            </a:xfrm>
            <a:prstGeom prst="leftRightArrow">
              <a:avLst>
                <a:gd name="adj1" fmla="val 50000"/>
                <a:gd name="adj2" fmla="val 50067"/>
              </a:avLst>
            </a:prstGeom>
            <a:solidFill>
              <a:srgbClr val="8faadc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右箭头 20"/>
            <p:cNvSpPr/>
            <p:nvPr/>
          </p:nvSpPr>
          <p:spPr>
            <a:xfrm>
              <a:off x="5859720" y="4151160"/>
              <a:ext cx="2095560" cy="23796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8faadc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5" name="直接箭头连接符 21"/>
            <p:cNvCxnSpPr/>
            <p:nvPr/>
          </p:nvCxnSpPr>
          <p:spPr>
            <a:xfrm flipV="1">
              <a:off x="852120" y="3925080"/>
              <a:ext cx="7209720" cy="30600"/>
            </a:xfrm>
            <a:prstGeom prst="straightConnector1">
              <a:avLst/>
            </a:prstGeom>
            <a:ln w="50760">
              <a:solidFill>
                <a:srgbClr val="548235"/>
              </a:solidFill>
              <a:miter/>
              <a:tailEnd len="med" type="arrow" w="med"/>
            </a:ln>
          </p:spPr>
        </p:cxnSp>
        <p:sp>
          <p:nvSpPr>
            <p:cNvPr id="176" name="TextBox 53"/>
            <p:cNvSpPr/>
            <p:nvPr/>
          </p:nvSpPr>
          <p:spPr>
            <a:xfrm>
              <a:off x="6218280" y="4268880"/>
              <a:ext cx="1444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R</a:t>
              </a:r>
              <a:r>
                <a:rPr b="1" lang="en-US" sz="2000" spc="-1" strike="noStrike" baseline="-25000">
                  <a:solidFill>
                    <a:srgbClr val="002060"/>
                  </a:solidFill>
                  <a:latin typeface="微软雅黑"/>
                  <a:ea typeface="微软雅黑"/>
                </a:rPr>
                <a:t>3</a:t>
              </a:r>
              <a:r>
                <a:rPr b="1" lang="en-US" sz="2000" spc="-1" strike="noStrike">
                  <a:solidFill>
                    <a:srgbClr val="002060"/>
                  </a:solidFill>
                  <a:latin typeface="微软雅黑"/>
                  <a:ea typeface="微软雅黑"/>
                </a:rPr>
                <a:t>=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8678"/>
            <p:cNvSpPr/>
            <p:nvPr/>
          </p:nvSpPr>
          <p:spPr>
            <a:xfrm>
              <a:off x="8061480" y="3692520"/>
              <a:ext cx="6634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矩形 2"/>
          <p:cNvSpPr/>
          <p:nvPr/>
        </p:nvSpPr>
        <p:spPr>
          <a:xfrm>
            <a:off x="3602160" y="1027080"/>
            <a:ext cx="24681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年平均出厂压力的修正值</a:t>
            </a:r>
            <a:r>
              <a:rPr b="1" lang="en-US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R</a:t>
            </a:r>
            <a:r>
              <a:rPr b="1" lang="en-US" sz="2300" spc="-1" strike="noStrike" baseline="-25000">
                <a:solidFill>
                  <a:srgbClr val="7030a0"/>
                </a:solidFill>
                <a:latin typeface="微软雅黑"/>
                <a:ea typeface="微软雅黑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3"/>
          <p:cNvSpPr/>
          <p:nvPr/>
        </p:nvSpPr>
        <p:spPr>
          <a:xfrm>
            <a:off x="546120" y="4889520"/>
            <a:ext cx="829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于重力流水厂，出厂水压力为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0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，不予修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修正值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9" descr="C:\Users\506\Desktop\0fdab6fd5266d01693d4ac89902bd40734fa3546.jpg"/>
          <p:cNvPicPr/>
          <p:nvPr/>
        </p:nvPicPr>
        <p:blipFill>
          <a:blip r:embed="rId1"/>
          <a:srcRect l="0" t="0" r="0" b="4056"/>
          <a:stretch/>
        </p:blipFill>
        <p:spPr>
          <a:xfrm>
            <a:off x="950760" y="1760400"/>
            <a:ext cx="6867720" cy="4602240"/>
          </a:xfrm>
          <a:prstGeom prst="rect">
            <a:avLst/>
          </a:prstGeom>
          <a:ln w="0">
            <a:noFill/>
          </a:ln>
        </p:spPr>
      </p:pic>
      <p:sp>
        <p:nvSpPr>
          <p:cNvPr id="182" name="椭圆 27"/>
          <p:cNvSpPr/>
          <p:nvPr/>
        </p:nvSpPr>
        <p:spPr>
          <a:xfrm>
            <a:off x="5969160" y="3232080"/>
            <a:ext cx="141120" cy="130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28"/>
          <p:cNvSpPr/>
          <p:nvPr/>
        </p:nvSpPr>
        <p:spPr>
          <a:xfrm>
            <a:off x="2104920" y="2425680"/>
            <a:ext cx="1576440" cy="808200"/>
          </a:xfrm>
          <a:prstGeom prst="ellipse">
            <a:avLst/>
          </a:prstGeom>
          <a:noFill/>
          <a:ln w="507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30"/>
          <p:cNvSpPr/>
          <p:nvPr/>
        </p:nvSpPr>
        <p:spPr>
          <a:xfrm>
            <a:off x="3483000" y="3219480"/>
            <a:ext cx="1754280" cy="447480"/>
          </a:xfrm>
          <a:prstGeom prst="ellipse">
            <a:avLst/>
          </a:prstGeom>
          <a:noFill/>
          <a:ln w="5076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31"/>
          <p:cNvSpPr/>
          <p:nvPr/>
        </p:nvSpPr>
        <p:spPr>
          <a:xfrm>
            <a:off x="6097680" y="2957400"/>
            <a:ext cx="141120" cy="131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32"/>
          <p:cNvSpPr/>
          <p:nvPr/>
        </p:nvSpPr>
        <p:spPr>
          <a:xfrm>
            <a:off x="6262560" y="2576520"/>
            <a:ext cx="139680" cy="130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33"/>
          <p:cNvSpPr/>
          <p:nvPr/>
        </p:nvSpPr>
        <p:spPr>
          <a:xfrm>
            <a:off x="4384800" y="1978200"/>
            <a:ext cx="2809800" cy="14000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34"/>
          <p:cNvSpPr/>
          <p:nvPr/>
        </p:nvSpPr>
        <p:spPr>
          <a:xfrm>
            <a:off x="5062680" y="3378240"/>
            <a:ext cx="139680" cy="131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标注 35"/>
          <p:cNvSpPr/>
          <p:nvPr/>
        </p:nvSpPr>
        <p:spPr>
          <a:xfrm>
            <a:off x="7161120" y="1922400"/>
            <a:ext cx="1825560" cy="490680"/>
          </a:xfrm>
          <a:prstGeom prst="wedgeRectCallout">
            <a:avLst>
              <a:gd name="adj1" fmla="val -96106"/>
              <a:gd name="adj2" fmla="val 89777"/>
            </a:avLst>
          </a:prstGeom>
          <a:solidFill>
            <a:srgbClr val="a9d18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194600" y="1963800"/>
            <a:ext cx="179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哈尔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标注 37"/>
          <p:cNvSpPr/>
          <p:nvPr/>
        </p:nvSpPr>
        <p:spPr>
          <a:xfrm>
            <a:off x="7205760" y="2579760"/>
            <a:ext cx="1601640" cy="488880"/>
          </a:xfrm>
          <a:prstGeom prst="wedgeRectCallout">
            <a:avLst>
              <a:gd name="adj1" fmla="val -107962"/>
              <a:gd name="adj2" fmla="val 39425"/>
            </a:avLst>
          </a:prstGeom>
          <a:solidFill>
            <a:srgbClr val="a9d18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9"/>
          <p:cNvSpPr/>
          <p:nvPr/>
        </p:nvSpPr>
        <p:spPr>
          <a:xfrm>
            <a:off x="7238880" y="2631960"/>
            <a:ext cx="15685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长春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6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标注 39"/>
          <p:cNvSpPr/>
          <p:nvPr/>
        </p:nvSpPr>
        <p:spPr>
          <a:xfrm>
            <a:off x="7205760" y="3156120"/>
            <a:ext cx="1601640" cy="488880"/>
          </a:xfrm>
          <a:prstGeom prst="wedgeRectCallout">
            <a:avLst>
              <a:gd name="adj1" fmla="val -121481"/>
              <a:gd name="adj2" fmla="val -22370"/>
            </a:avLst>
          </a:prstGeom>
          <a:solidFill>
            <a:srgbClr val="a9d18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7238880" y="3195720"/>
            <a:ext cx="15685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沈阳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标注 41"/>
          <p:cNvSpPr/>
          <p:nvPr/>
        </p:nvSpPr>
        <p:spPr>
          <a:xfrm>
            <a:off x="3635280" y="2462040"/>
            <a:ext cx="1995480" cy="490680"/>
          </a:xfrm>
          <a:prstGeom prst="wedgeRectCallout">
            <a:avLst>
              <a:gd name="adj1" fmla="val 25189"/>
              <a:gd name="adj2" fmla="val 146995"/>
            </a:avLst>
          </a:prstGeom>
          <a:solidFill>
            <a:srgbClr val="a9d18e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4"/>
          <p:cNvSpPr/>
          <p:nvPr/>
        </p:nvSpPr>
        <p:spPr>
          <a:xfrm>
            <a:off x="3668760" y="2502000"/>
            <a:ext cx="2120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呼和浩特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43"/>
          <p:cNvSpPr/>
          <p:nvPr/>
        </p:nvSpPr>
        <p:spPr>
          <a:xfrm>
            <a:off x="2759040" y="2814480"/>
            <a:ext cx="141480" cy="130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标注 44"/>
          <p:cNvSpPr/>
          <p:nvPr/>
        </p:nvSpPr>
        <p:spPr>
          <a:xfrm>
            <a:off x="57240" y="2548080"/>
            <a:ext cx="1995480" cy="490320"/>
          </a:xfrm>
          <a:prstGeom prst="wedgeRectCallout">
            <a:avLst>
              <a:gd name="adj1" fmla="val 89101"/>
              <a:gd name="adj2" fmla="val 14249"/>
            </a:avLst>
          </a:prstGeom>
          <a:solidFill>
            <a:srgbClr val="f4b18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8"/>
          <p:cNvSpPr/>
          <p:nvPr/>
        </p:nvSpPr>
        <p:spPr>
          <a:xfrm>
            <a:off x="92160" y="2589120"/>
            <a:ext cx="21193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乌鲁木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46"/>
          <p:cNvSpPr/>
          <p:nvPr/>
        </p:nvSpPr>
        <p:spPr>
          <a:xfrm>
            <a:off x="5430960" y="3463920"/>
            <a:ext cx="139680" cy="131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标注 47"/>
          <p:cNvSpPr/>
          <p:nvPr/>
        </p:nvSpPr>
        <p:spPr>
          <a:xfrm>
            <a:off x="7221600" y="3801960"/>
            <a:ext cx="1601640" cy="488880"/>
          </a:xfrm>
          <a:prstGeom prst="wedgeRectCallout">
            <a:avLst>
              <a:gd name="adj1" fmla="val -159782"/>
              <a:gd name="adj2" fmla="val -111629"/>
            </a:avLst>
          </a:prstGeom>
          <a:solidFill>
            <a:srgbClr val="f4b18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1"/>
          <p:cNvSpPr/>
          <p:nvPr/>
        </p:nvSpPr>
        <p:spPr>
          <a:xfrm>
            <a:off x="7238880" y="3841920"/>
            <a:ext cx="15685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49"/>
          <p:cNvSpPr/>
          <p:nvPr/>
        </p:nvSpPr>
        <p:spPr>
          <a:xfrm>
            <a:off x="5575320" y="3767040"/>
            <a:ext cx="139680" cy="130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标注 50"/>
          <p:cNvSpPr/>
          <p:nvPr/>
        </p:nvSpPr>
        <p:spPr>
          <a:xfrm>
            <a:off x="7221600" y="4460760"/>
            <a:ext cx="1601640" cy="490680"/>
          </a:xfrm>
          <a:prstGeom prst="wedgeRectCallout">
            <a:avLst>
              <a:gd name="adj1" fmla="val -148513"/>
              <a:gd name="adj2" fmla="val -178004"/>
            </a:avLst>
          </a:prstGeom>
          <a:solidFill>
            <a:srgbClr val="f4b18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4"/>
          <p:cNvSpPr/>
          <p:nvPr/>
        </p:nvSpPr>
        <p:spPr>
          <a:xfrm>
            <a:off x="7289640" y="4502160"/>
            <a:ext cx="15685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济南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52"/>
          <p:cNvSpPr/>
          <p:nvPr/>
        </p:nvSpPr>
        <p:spPr>
          <a:xfrm>
            <a:off x="5237280" y="3711600"/>
            <a:ext cx="141120" cy="130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标注 53"/>
          <p:cNvSpPr/>
          <p:nvPr/>
        </p:nvSpPr>
        <p:spPr>
          <a:xfrm>
            <a:off x="7238880" y="5130720"/>
            <a:ext cx="1602000" cy="490680"/>
          </a:xfrm>
          <a:prstGeom prst="wedgeRectCallout">
            <a:avLst>
              <a:gd name="adj1" fmla="val -169541"/>
              <a:gd name="adj2" fmla="val -322194"/>
            </a:avLst>
          </a:prstGeom>
          <a:solidFill>
            <a:srgbClr val="f4b18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8"/>
          <p:cNvSpPr/>
          <p:nvPr/>
        </p:nvSpPr>
        <p:spPr>
          <a:xfrm>
            <a:off x="7307280" y="5170320"/>
            <a:ext cx="15685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郑州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1845360" y="1312920"/>
            <a:ext cx="4001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最大冻土深度大于</a:t>
            </a:r>
            <a:r>
              <a:rPr b="1" lang="en-US" sz="2100" spc="-1" strike="noStrike">
                <a:solidFill>
                  <a:srgbClr val="c00000"/>
                </a:solidFill>
                <a:latin typeface="微软雅黑"/>
                <a:ea typeface="微软雅黑"/>
              </a:rPr>
              <a:t>1.4m</a:t>
            </a:r>
            <a:r>
              <a:rPr b="1" lang="zh-CN" sz="21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时，修正值应为</a:t>
            </a:r>
            <a:r>
              <a:rPr b="1" lang="en-US" sz="2100" spc="-1" strike="noStrike">
                <a:solidFill>
                  <a:srgbClr val="c00000"/>
                </a:solidFill>
                <a:latin typeface="微软雅黑"/>
                <a:ea typeface="微软雅黑"/>
              </a:rPr>
              <a:t>1%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-25560" y="6411960"/>
            <a:ext cx="9309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最大冻土深度根据《民用建筑供暖通风与空气调节设计规范》</a:t>
            </a:r>
            <a:r>
              <a:rPr b="0" lang="en-US" sz="1900" spc="-1" strike="noStrike">
                <a:solidFill>
                  <a:srgbClr val="c00000"/>
                </a:solidFill>
                <a:latin typeface="微软雅黑"/>
                <a:ea typeface="微软雅黑"/>
              </a:rPr>
              <a:t>GB 50736</a:t>
            </a:r>
            <a:r>
              <a:rPr b="0" lang="zh-CN" sz="19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附录</a:t>
            </a:r>
            <a:r>
              <a:rPr b="0" lang="en-US" sz="1900" spc="-1" strike="noStrike">
                <a:solidFill>
                  <a:srgbClr val="c00000"/>
                </a:solidFill>
                <a:latin typeface="微软雅黑"/>
                <a:ea typeface="微软雅黑"/>
              </a:rPr>
              <a:t>A</a:t>
            </a:r>
            <a:r>
              <a:rPr b="0" lang="zh-CN" sz="1900" spc="-1" strike="noStrike">
                <a:solidFill>
                  <a:srgbClr val="c00000"/>
                </a:solidFill>
                <a:latin typeface="微软雅黑"/>
                <a:ea typeface="微软雅黑"/>
              </a:rPr>
              <a:t>确定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"/>
          <p:cNvSpPr/>
          <p:nvPr/>
        </p:nvSpPr>
        <p:spPr>
          <a:xfrm>
            <a:off x="3751560" y="876240"/>
            <a:ext cx="229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最大冻土深度的修正值</a:t>
            </a:r>
            <a:r>
              <a:rPr b="1" lang="en-US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R</a:t>
            </a:r>
            <a:r>
              <a:rPr b="1" lang="en-US" sz="2300" spc="-1" strike="noStrike" baseline="-25000">
                <a:solidFill>
                  <a:srgbClr val="7030a0"/>
                </a:solidFill>
                <a:latin typeface="微软雅黑"/>
                <a:ea typeface="微软雅黑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36"/>
          <p:cNvSpPr/>
          <p:nvPr/>
        </p:nvSpPr>
        <p:spPr>
          <a:xfrm>
            <a:off x="1990800" y="3733920"/>
            <a:ext cx="1576440" cy="807840"/>
          </a:xfrm>
          <a:prstGeom prst="ellipse">
            <a:avLst/>
          </a:prstGeom>
          <a:noFill/>
          <a:ln w="507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全国或区域漏损率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3" descr="全国或区域漏损率计算公式.png"/>
          <p:cNvPicPr/>
          <p:nvPr/>
        </p:nvPicPr>
        <p:blipFill>
          <a:blip r:embed="rId1"/>
          <a:stretch/>
        </p:blipFill>
        <p:spPr>
          <a:xfrm>
            <a:off x="685800" y="1289160"/>
            <a:ext cx="7558200" cy="4273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698400" y="5842080"/>
            <a:ext cx="7785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京市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漏损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14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集团（含郊区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漏损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42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08:03:52Z</dcterms:created>
  <dc:creator>Jianyu Sun</dc:creator>
  <dc:description/>
  <dc:language>en-US</dc:language>
  <cp:lastModifiedBy>KJKFBXX637148571618231692</cp:lastModifiedBy>
  <cp:lastPrinted>2015-05-21T01:17:11Z</cp:lastPrinted>
  <dcterms:modified xsi:type="dcterms:W3CDTF">2020-06-18T06:03:24Z</dcterms:modified>
  <cp:revision>1223</cp:revision>
  <dc:subject/>
  <dc:title>PowerPoint 演示文稿</dc:title>
</cp:coreProperties>
</file>